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C5EB7-D14E-4888-AC9D-758AD39EA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50DE5-9C0B-4345-B2CC-73DCF0D70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613FB-FCC1-43BC-9DED-34D5E99EA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ECD5F-F9BE-478F-BACC-F74F88F88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D4DC2-E9DC-478B-BE09-FA1101554C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53B95-443F-4161-9B1F-247A98651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1BF02-A6C6-4532-9BA2-AFA25B21F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B8FD2-C7CF-4560-8E17-347020C6A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6E1BF-6666-43DA-BD5B-8A7646E05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9B1EF-E6DE-45AA-AFF6-605B07DAA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225FE-2907-4E04-93A9-C494DA81C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668FB-AE6D-4971-9FA0-7D1911F9F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F89B1-D98D-4C66-9D90-D11C0717F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88E60-75A0-4108-A8AE-911B15328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DD109-8662-4828-95D3-9B1069357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46124A-8558-4C5E-B468-1B2CEDBBE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D2641-03D0-4C7D-ACF4-AFCBA793BC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43B90-170B-4D07-820F-5AA04FCCF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33F31-06FD-4F06-84F1-59188ADD9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7DD45-4244-4C07-8F24-1BB315DC0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9D41F-E315-4234-8F59-47A3CCD4B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D02A1-4639-43C7-B57A-D46F50DAC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BCB6E-3F57-4241-BA8B-5179A1EAE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9C9BF-B94A-41C4-9376-BC7D78BD0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F4BFC4-500D-4E78-A9CE-F72A138F8620}" type="datetime">
              <a:rPr b="0" lang="en-US" sz="1200" spc="-1" strike="noStrike">
                <a:solidFill>
                  <a:srgbClr val="ffffff"/>
                </a:solidFill>
                <a:latin typeface="News Gothic MT"/>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20473-8A9A-437E-A42C-E1830D8F2A29}" type="slidenum">
              <a:rPr b="0" lang="en-US" sz="3600" spc="-1" strike="noStrike">
                <a:solidFill>
                  <a:srgbClr val="ffffff"/>
                </a:solidFill>
                <a:latin typeface="News Gothic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BD655C-E2D5-4A57-8D66-757EA4C4577B}" type="datetime">
              <a:rPr b="0" lang="en-US" sz="1200" spc="-1" strike="noStrike">
                <a:solidFill>
                  <a:srgbClr val="ffffff"/>
                </a:solidFill>
                <a:latin typeface="News Gothic MT"/>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4974E-AA4A-4526-AC7A-E02BA2023F3E}" type="slidenum">
              <a:rPr b="0" lang="en-US" sz="3600" spc="-1" strike="noStrike">
                <a:solidFill>
                  <a:srgbClr val="ffffff"/>
                </a:solidFill>
                <a:latin typeface="News Gothic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lobalissues.org/article/26/poverty-facts-and-stats"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22280" y="0"/>
            <a:ext cx="6499440" cy="2487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18579b"/>
                </a:solidFill>
                <a:latin typeface="Charcoal CY"/>
              </a:rPr>
              <a:t>LifePump</a:t>
            </a:r>
            <a:endParaRPr b="0" lang="en-US" sz="8800" spc="-1" strike="noStrike">
              <a:solidFill>
                <a:srgbClr val="2c7c9f"/>
              </a:solidFill>
              <a:latin typeface="News Gothic MT"/>
            </a:endParaRPr>
          </a:p>
        </p:txBody>
      </p:sp>
      <p:sp>
        <p:nvSpPr>
          <p:cNvPr id="84" name="PlaceHolder 2"/>
          <p:cNvSpPr>
            <a:spLocks noGrp="1"/>
          </p:cNvSpPr>
          <p:nvPr>
            <p:ph type="subTitle"/>
          </p:nvPr>
        </p:nvSpPr>
        <p:spPr>
          <a:xfrm>
            <a:off x="1322280" y="3276360"/>
            <a:ext cx="6499440" cy="990360"/>
          </a:xfrm>
          <a:prstGeom prst="rect">
            <a:avLst/>
          </a:prstGeom>
          <a:noFill/>
          <a:ln w="0">
            <a:noFill/>
          </a:ln>
        </p:spPr>
        <p:txBody>
          <a:bodyPr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Laura Lamb </a:t>
            </a:r>
            <a:endParaRPr b="0" lang="en-US" sz="11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idra Mukhtar </a:t>
            </a:r>
            <a:endParaRPr b="0" lang="en-US" sz="11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Jacqueline Pizzolon</a:t>
            </a:r>
            <a:endParaRPr b="0" lang="en-US" sz="11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Justyna Zarzeczny </a:t>
            </a:r>
            <a:endParaRPr b="0" lang="en-US" sz="11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yron Zhao </a:t>
            </a:r>
            <a:endParaRPr b="0" lang="en-US" sz="1100" spc="-1" strike="noStrike">
              <a:solidFill>
                <a:srgbClr val="595959"/>
              </a:solidFill>
              <a:latin typeface="News Gothic MT"/>
            </a:endParaRPr>
          </a:p>
        </p:txBody>
      </p:sp>
      <p:sp>
        <p:nvSpPr>
          <p:cNvPr id="85" name="TextBox 4"/>
          <p:cNvSpPr/>
          <p:nvPr/>
        </p:nvSpPr>
        <p:spPr>
          <a:xfrm>
            <a:off x="4058640" y="2671920"/>
            <a:ext cx="99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Black"/>
              </a:rPr>
              <a:t>CCT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Future</a:t>
            </a:r>
            <a:endParaRPr b="0" lang="en-US" sz="4600" spc="-1" strike="noStrike">
              <a:solidFill>
                <a:srgbClr val="2c7c9f"/>
              </a:solidFill>
              <a:latin typeface="News Gothic MT"/>
            </a:endParaRPr>
          </a:p>
        </p:txBody>
      </p:sp>
      <p:sp>
        <p:nvSpPr>
          <p:cNvPr id="10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LifePump ensures the health of children and parents alike to protect future generations.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ossible usage in developed countries after a natural disaster has occurred when clean drinking water is not readily available (i.e. flood)</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ossible usage for harsh circumstances such as military use and camping.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ferences</a:t>
            </a:r>
            <a:endParaRPr b="0" lang="en-US" sz="4600" spc="-1" strike="noStrike">
              <a:solidFill>
                <a:srgbClr val="2c7c9f"/>
              </a:solidFill>
              <a:latin typeface="News Gothic MT"/>
            </a:endParaRPr>
          </a:p>
        </p:txBody>
      </p:sp>
      <p:sp>
        <p:nvSpPr>
          <p:cNvPr id="105" name=""/>
          <p:cNvSpPr txBox="1"/>
          <p:nvPr/>
        </p:nvSpPr>
        <p:spPr>
          <a:xfrm>
            <a:off x="549000" y="1599840"/>
            <a:ext cx="8042040" cy="48769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Awid. Women and Water Privatization. 2008. March 14, 2010. &lt;</a:t>
            </a:r>
            <a:r>
              <a:rPr b="0" lang="en-US" sz="1500" spc="-1" strike="noStrike" u="sng">
                <a:solidFill>
                  <a:srgbClr val="595959"/>
                </a:solidFill>
                <a:uFillTx/>
                <a:latin typeface="News Gothic MT"/>
              </a:rPr>
              <a:t>http://www.awid.org/eng/Issues-and-Analysis/Library/Women-and-Water-Privatization&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Shah, Anup. "Poverty Facts and Stats.." </a:t>
            </a:r>
            <a:r>
              <a:rPr b="0" i="1" lang="en-US" sz="1500" spc="-1" strike="noStrike">
                <a:solidFill>
                  <a:srgbClr val="595959"/>
                </a:solidFill>
                <a:latin typeface="News Gothic MT"/>
              </a:rPr>
              <a:t>Global Issues. N.p., 22 Mar. 2009. Web. 6 Mar. 2010. &lt;</a:t>
            </a:r>
            <a:r>
              <a:rPr b="0" lang="en-US" sz="1500" spc="-1" strike="noStrike" u="sng">
                <a:solidFill>
                  <a:srgbClr val="7030a0"/>
                </a:solidFill>
                <a:uFillTx/>
                <a:latin typeface="News Gothic MT"/>
                <a:hlinkClick r:id="rId2"/>
              </a:rPr>
              <a:t>http://www.globalissues.org/article/26/poverty-facts-and-stats&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UNICEF. Water, Sanitation and Hygiene. April 1, 2005. </a:t>
            </a:r>
            <a:br>
              <a:rPr sz="1500"/>
            </a:br>
            <a:r>
              <a:rPr b="0" lang="en-US" sz="1500" spc="-1" strike="noStrike">
                <a:solidFill>
                  <a:srgbClr val="595959"/>
                </a:solidFill>
                <a:latin typeface="News Gothic MT"/>
              </a:rPr>
              <a:t>&lt;</a:t>
            </a:r>
            <a:r>
              <a:rPr b="0" lang="en-US" sz="1500" spc="-1" strike="noStrike" u="sng">
                <a:solidFill>
                  <a:srgbClr val="595959"/>
                </a:solidFill>
                <a:uFillTx/>
                <a:latin typeface="News Gothic MT"/>
              </a:rPr>
              <a:t>http://www.unicef.org/wash/index_wes_related.html&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WaterAid. Statistics. WaterAid International Site. March 5, 2010. </a:t>
            </a:r>
            <a:br>
              <a:rPr sz="1500"/>
            </a:br>
            <a:r>
              <a:rPr b="0" lang="en-US" sz="1500" spc="-1" strike="noStrike">
                <a:solidFill>
                  <a:srgbClr val="595959"/>
                </a:solidFill>
                <a:latin typeface="News Gothic MT"/>
              </a:rPr>
              <a:t>&lt;</a:t>
            </a:r>
            <a:r>
              <a:rPr b="0" lang="en-US" sz="1500" spc="-1" strike="noStrike" u="sng">
                <a:solidFill>
                  <a:srgbClr val="595959"/>
                </a:solidFill>
                <a:uFillTx/>
                <a:latin typeface="News Gothic MT"/>
              </a:rPr>
              <a:t>http://www.wateraid.org/international/what_we_do/statistics/default.asp&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World Health Organization (WHO). Water Sanitation and Health (WSH). 2010.     &lt;</a:t>
            </a:r>
            <a:r>
              <a:rPr b="0" lang="en-US" sz="1500" spc="-1" strike="noStrike" u="sng">
                <a:solidFill>
                  <a:srgbClr val="595959"/>
                </a:solidFill>
                <a:uFillTx/>
                <a:latin typeface="News Gothic MT"/>
              </a:rPr>
              <a:t>http://www.who.int/water_sanitation_health/diseases/burden/en/index.html&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Zaslow , Sandra, and Glenda Herman. "Health Effects of Drinking Water Contaminants." Department of Biological and Agricultural Engineering @ NC State University, Raleigh, North Carolina. N.p., 14 Mar. 2010. Web. 16 Mar. 2010. &lt;</a:t>
            </a:r>
            <a:r>
              <a:rPr b="0" lang="en-US" sz="1500" spc="-1" strike="noStrike" u="sng">
                <a:solidFill>
                  <a:srgbClr val="595959"/>
                </a:solidFill>
                <a:uFillTx/>
                <a:latin typeface="News Gothic MT"/>
              </a:rPr>
              <a:t>http://www.bae.ncsu.edu/programs/extension/publicat/wqwm/he393.html&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Problems</a:t>
            </a:r>
            <a:endParaRPr b="0" lang="en-US" sz="4600" spc="-1" strike="noStrike">
              <a:solidFill>
                <a:srgbClr val="2c7c9f"/>
              </a:solidFill>
              <a:latin typeface="News Gothic MT"/>
            </a:endParaRPr>
          </a:p>
        </p:txBody>
      </p:sp>
      <p:sp>
        <p:nvSpPr>
          <p:cNvPr id="8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Approximately “884 million people in the world do not have access to safe water” (WaterAid).</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Half the children in the world live in poverty and 400 million or 1 in 5 child hasn’t access to safe drinking water. This can be due to the lack of water resources near by or natural disasters. </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About 1.4 million children die each year from the lack of access to safe drinking water (Global Issues)</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Estimated that women and girls use more than 8 hours a day traveling from 10 to 15 km to transport between 20 and 15 liters of water” (Awid).</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About 4 billion cases of diarrhoea per year [worldwide] cause 1.8 million deaths, over 90 per cent of them (1.6 million) among children under five" (UNICEF).</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Studies also show that "88% of that burden is attributable to unsafe water supply, sanitation and hygiene." (WHO).</a:t>
            </a:r>
            <a:endParaRPr b="0" lang="en-US" sz="1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Our Solution: LifePump</a:t>
            </a:r>
            <a:endParaRPr b="0" lang="en-US" sz="4600" spc="-1" strike="noStrike">
              <a:solidFill>
                <a:srgbClr val="2c7c9f"/>
              </a:solidFill>
              <a:latin typeface="News Gothic MT"/>
            </a:endParaRPr>
          </a:p>
        </p:txBody>
      </p:sp>
      <p:sp>
        <p:nvSpPr>
          <p:cNvPr id="8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LifePump is a portable microbiological water purifying device based on the same filtration system used in the </a:t>
            </a:r>
            <a:r>
              <a:rPr b="0" i="1" lang="en-US" sz="2400" spc="-1" strike="noStrike">
                <a:solidFill>
                  <a:srgbClr val="595959"/>
                </a:solidFill>
                <a:latin typeface="News Gothic MT"/>
              </a:rPr>
              <a:t>LifeStraw.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t is designed to supply clean water to people living in harsh conditions. </a:t>
            </a:r>
            <a:br>
              <a:rPr sz="2400"/>
            </a:br>
            <a:r>
              <a:rPr b="0" lang="en-US" sz="2400" spc="-1" strike="noStrike">
                <a:solidFill>
                  <a:srgbClr val="595959"/>
                </a:solidFill>
                <a:latin typeface="News Gothic MT"/>
              </a:rPr>
              <a:t>-developing countries</a:t>
            </a:r>
            <a:br>
              <a:rPr sz="2400"/>
            </a:br>
            <a:r>
              <a:rPr b="0" lang="en-US" sz="2400" spc="-1" strike="noStrike">
                <a:solidFill>
                  <a:srgbClr val="595959"/>
                </a:solidFill>
                <a:latin typeface="News Gothic MT"/>
              </a:rPr>
              <a:t>-after natural disasters</a:t>
            </a:r>
            <a:br>
              <a:rPr sz="2400"/>
            </a:br>
            <a:r>
              <a:rPr b="0" lang="en-US" sz="2400" spc="-1" strike="noStrike">
                <a:solidFill>
                  <a:srgbClr val="595959"/>
                </a:solidFill>
                <a:latin typeface="News Gothic MT"/>
              </a:rPr>
              <a:t>-camping/military</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t will assist in reducing the amount of disease carried through unsafe drinking water.</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How it works?</a:t>
            </a:r>
            <a:endParaRPr b="0" lang="en-US" sz="4600" spc="-1" strike="noStrike">
              <a:solidFill>
                <a:srgbClr val="2c7c9f"/>
              </a:solidFill>
              <a:latin typeface="News Gothic MT"/>
            </a:endParaRPr>
          </a:p>
        </p:txBody>
      </p:sp>
      <p:sp>
        <p:nvSpPr>
          <p:cNvPr id="9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LifePump uses a foot pump as a quick way to transfer water from the source to a container (i.e. </a:t>
            </a:r>
            <a:r>
              <a:rPr b="0" i="1" lang="en-US" sz="1600" spc="-1" strike="noStrike">
                <a:solidFill>
                  <a:srgbClr val="595959"/>
                </a:solidFill>
                <a:latin typeface="News Gothic MT"/>
              </a:rPr>
              <a:t>Q-Drum</a:t>
            </a:r>
            <a:r>
              <a:rPr b="0" lang="en-US" sz="1600" spc="-1" strike="noStrike">
                <a:solidFill>
                  <a:srgbClr val="595959"/>
                </a:solidFill>
                <a:latin typeface="News Gothic MT"/>
              </a:rPr>
              <a:t>).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When in use, one end of a water tube is to be placed into the water source, while the other end is attached to the foot pump.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On the other side of the foot pump will be the second water tube placed in the water container.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Once the user begins to press down on the foot pedal, water will be pumped through the tube and into a filter.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filter system then removes viruses, bacteria, parasites, and even dirt from the source water.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filtered water then passes through the second tube and into the container.  </a:t>
            </a:r>
            <a:endParaRPr b="0" lang="en-US" sz="16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LifePump</a:t>
            </a:r>
            <a:endParaRPr b="0" lang="en-US" sz="4600" spc="-1" strike="noStrike">
              <a:solidFill>
                <a:srgbClr val="2c7c9f"/>
              </a:solidFill>
              <a:latin typeface="News Gothic MT"/>
            </a:endParaRPr>
          </a:p>
        </p:txBody>
      </p:sp>
      <p:pic>
        <p:nvPicPr>
          <p:cNvPr id="93" name="Content Placeholder 3" descr="overview_lifepump.jpg"/>
          <p:cNvPicPr/>
          <p:nvPr/>
        </p:nvPicPr>
        <p:blipFill>
          <a:blip r:embed="rId2"/>
          <a:srcRect l="-11476" t="0" r="-11476" b="0"/>
          <a:stretch/>
        </p:blipFill>
        <p:spPr>
          <a:xfrm>
            <a:off x="-304920" y="1514520"/>
            <a:ext cx="9753840" cy="526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Filter</a:t>
            </a:r>
            <a:endParaRPr b="0" lang="en-US" sz="4600" spc="-1" strike="noStrike">
              <a:solidFill>
                <a:srgbClr val="2c7c9f"/>
              </a:solidFill>
              <a:latin typeface="News Gothic MT"/>
            </a:endParaRPr>
          </a:p>
        </p:txBody>
      </p:sp>
      <p:pic>
        <p:nvPicPr>
          <p:cNvPr id="95" name="Content Placeholder 3" descr="333filterdetail.jpg"/>
          <p:cNvPicPr/>
          <p:nvPr/>
        </p:nvPicPr>
        <p:blipFill>
          <a:blip r:embed="rId2"/>
          <a:srcRect l="-18195" t="0" r="-18195" b="0"/>
          <a:stretch/>
        </p:blipFill>
        <p:spPr>
          <a:xfrm>
            <a:off x="-457200" y="1384200"/>
            <a:ext cx="10134720" cy="547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Benefits</a:t>
            </a:r>
            <a:endParaRPr b="0" lang="en-US" sz="4600" spc="-1" strike="noStrike">
              <a:solidFill>
                <a:srgbClr val="2c7c9f"/>
              </a:solidFill>
              <a:latin typeface="News Gothic MT"/>
            </a:endParaRPr>
          </a:p>
        </p:txBody>
      </p:sp>
      <p:sp>
        <p:nvSpPr>
          <p:cNvPr id="9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It allows for quick and easy access to clean drinking water which can hopefully reduce the amount of sickness and deaths due to water born illness in developing countries.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LifePump gathers and filters the water then sends it directly to the water storing container.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filter installed in the LifePump eliminates all impurities and bacteria ensuring that the water is safe and drinkable.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benefit of initially having clean water pumped into the storage containers, rather then taking the water directly from the source then purifying it, is that it will maintain the cleanliness of the storage containers so there will be less bacteria build up in them.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foot pump is also an efficient way to get water quickly using just human energy to power the pump. </a:t>
            </a:r>
            <a:endParaRPr b="0" lang="en-US" sz="16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Price</a:t>
            </a:r>
            <a:endParaRPr b="0" lang="en-US" sz="4600" spc="-1" strike="noStrike">
              <a:solidFill>
                <a:srgbClr val="2c7c9f"/>
              </a:solidFill>
              <a:latin typeface="News Gothic MT"/>
            </a:endParaRPr>
          </a:p>
        </p:txBody>
      </p:sp>
      <p:sp>
        <p:nvSpPr>
          <p:cNvPr id="9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price of the LifePump purification system is less compared to the </a:t>
            </a:r>
            <a:r>
              <a:rPr b="0" i="1" lang="en-US" sz="2400" spc="-1" strike="noStrike">
                <a:solidFill>
                  <a:srgbClr val="595959"/>
                </a:solidFill>
                <a:latin typeface="News Gothic MT"/>
              </a:rPr>
              <a:t>LifeStraw </a:t>
            </a:r>
            <a:r>
              <a:rPr b="0" lang="en-US" sz="2400" spc="-1" strike="noStrike">
                <a:solidFill>
                  <a:srgbClr val="595959"/>
                </a:solidFill>
                <a:latin typeface="News Gothic MT"/>
              </a:rPr>
              <a:t>as the LifePump can be used by multiple families which reduces the average cost per person.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Our goal is to provide the LifePump for approximately $10.00.</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Differences</a:t>
            </a:r>
            <a:endParaRPr b="0" lang="en-US" sz="4600" spc="-1" strike="noStrike">
              <a:solidFill>
                <a:srgbClr val="2c7c9f"/>
              </a:solidFill>
              <a:latin typeface="News Gothic MT"/>
            </a:endParaRPr>
          </a:p>
        </p:txBody>
      </p:sp>
      <p:sp>
        <p:nvSpPr>
          <p:cNvPr id="10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What makes LifePump unique?</a:t>
            </a:r>
            <a:br>
              <a:rPr sz="2000"/>
            </a:br>
            <a:r>
              <a:rPr b="0" lang="en-US" sz="2000" spc="-1" strike="noStrike">
                <a:solidFill>
                  <a:srgbClr val="595959"/>
                </a:solidFill>
                <a:latin typeface="News Gothic MT"/>
              </a:rPr>
              <a:t>-uses a foot pump to make the filtration process quicker and easier than current available products</a:t>
            </a:r>
            <a:br>
              <a:rPr sz="2000"/>
            </a:br>
            <a:r>
              <a:rPr b="0" lang="en-US" sz="2000" spc="-1" strike="noStrike">
                <a:solidFill>
                  <a:srgbClr val="595959"/>
                </a:solidFill>
                <a:latin typeface="News Gothic MT"/>
              </a:rPr>
              <a:t>-no running water needed to operate</a:t>
            </a:r>
            <a:br>
              <a:rPr sz="2000"/>
            </a:br>
            <a:r>
              <a:rPr b="0" lang="en-US" sz="2000" spc="-1" strike="noStrike">
                <a:solidFill>
                  <a:srgbClr val="595959"/>
                </a:solidFill>
                <a:latin typeface="News Gothic MT"/>
              </a:rPr>
              <a:t>-keeps water storage container clean</a:t>
            </a:r>
            <a:endParaRPr b="0" lang="en-US" sz="20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Compared to other products</a:t>
            </a:r>
            <a:br>
              <a:rPr sz="2000"/>
            </a:br>
            <a:r>
              <a:rPr b="0" i="1" lang="en-US" sz="2000" spc="-1" strike="noStrike">
                <a:solidFill>
                  <a:srgbClr val="595959"/>
                </a:solidFill>
                <a:latin typeface="News Gothic MT"/>
              </a:rPr>
              <a:t>Aqua Sun</a:t>
            </a:r>
            <a:r>
              <a:rPr b="0" lang="en-US" sz="2000" spc="-1" strike="noStrike">
                <a:solidFill>
                  <a:srgbClr val="595959"/>
                </a:solidFill>
                <a:latin typeface="News Gothic MT"/>
              </a:rPr>
              <a:t>: heavy weight, not portable, and requires electricity (vehicle or solar power).</a:t>
            </a:r>
            <a:br>
              <a:rPr sz="2000"/>
            </a:br>
            <a:r>
              <a:rPr b="0" i="1" lang="en-US" sz="2000" spc="-1" strike="noStrike">
                <a:solidFill>
                  <a:srgbClr val="595959"/>
                </a:solidFill>
                <a:latin typeface="News Gothic MT"/>
              </a:rPr>
              <a:t>LifeStraw</a:t>
            </a:r>
            <a:r>
              <a:rPr b="0" lang="en-US" sz="2000" spc="-1" strike="noStrike">
                <a:solidFill>
                  <a:srgbClr val="595959"/>
                </a:solidFill>
                <a:latin typeface="News Gothic MT"/>
              </a:rPr>
              <a:t>: uses suction only for individual use</a:t>
            </a:r>
            <a:br>
              <a:rPr sz="2000"/>
            </a:br>
            <a:r>
              <a:rPr b="0" i="1" lang="en-US" sz="2000" spc="-1" strike="noStrike">
                <a:solidFill>
                  <a:srgbClr val="595959"/>
                </a:solidFill>
                <a:latin typeface="News Gothic MT"/>
              </a:rPr>
              <a:t>LifeStraw Family</a:t>
            </a:r>
            <a:r>
              <a:rPr b="0" lang="en-US" sz="2000" spc="-1" strike="noStrike">
                <a:solidFill>
                  <a:srgbClr val="595959"/>
                </a:solidFill>
                <a:latin typeface="News Gothic MT"/>
              </a:rPr>
              <a:t>: uses gravity (water is dripped slowly), less portable</a:t>
            </a: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4:57:07Z</dcterms:created>
  <dc:creator>Jackie</dc:creator>
  <dc:description/>
  <dc:language>en-US</dc:language>
  <cp:lastModifiedBy>Jackie</cp:lastModifiedBy>
  <dcterms:modified xsi:type="dcterms:W3CDTF">2010-03-22T17:48:47Z</dcterms:modified>
  <cp:revision>17</cp:revision>
  <dc:subject/>
  <dc:title>LifePump</dc:title>
</cp:coreProperties>
</file>